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75E-7F8F-41DC-84D3-1A328073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A62-60CE-4FB2-8235-D430709F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1D5-3A17-4981-BE1B-599698D2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C16-E172-4CE8-9EF7-0C623DD8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F8E6-7B22-4671-9DF2-ECD3FC80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03B8-D3C6-4883-87FD-EB60EAC7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2B40-5E63-40B4-93DA-8A6CA16D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3D9D-804B-40E5-AF54-2B3EB749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9849-8CE8-49AD-9BE4-8234A8AD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A317-2E95-4C42-8340-F5F81B03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2CCF-B8DB-4C88-8CD7-6F12AFC0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9EE-C80E-4806-9EBA-3EBC1A08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248F-68A7-40CB-B24D-EF4F17BA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7B7A-B5E3-4B49-8B7F-2061E653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52DB-E0F9-4471-8C26-EDA676D8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912C-CF16-4DB1-945F-B7639CEB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A207-A702-45C2-A695-DA325E0B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7AF-AB0C-466A-9327-0C2C3BFB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C8C-A013-4873-9010-74BB15E4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B6D-35E4-4AB5-B687-977ED548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2E5-A325-4D11-8987-5C6B64A9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1BB-1FD1-4DFC-99F0-B91856A1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322-AB9E-43C1-B090-15F2E300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DCC-F7DB-4C87-AF3E-1DA1A8DE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53C2-D831-4306-9B9D-5D20D5C4AD4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2CD8-1E5E-4514-8527-1121883955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REEDOM AREA HIGH SCHOO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670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WELCOME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Garamond"/>
              </a:rPr>
              <a:t>FREEDOM ARE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Garamond"/>
              </a:rPr>
              <a:t>HIGH SCHO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fhs.gif (21345 bytes)"/>
          <p:cNvPicPr/>
          <p:nvPr/>
        </p:nvPicPr>
        <p:blipFill>
          <a:blip r:embed="rId1"/>
          <a:stretch/>
        </p:blipFill>
        <p:spPr>
          <a:xfrm>
            <a:off x="380880" y="1143000"/>
            <a:ext cx="1838520" cy="1657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553080" y="914400"/>
            <a:ext cx="2148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mart Classroom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top Cart for Each Cor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urrently only funded for Math &amp;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-30 Laptops Per C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Whiteboard, Projector, Webcam, Digital Camera, Printer, Sc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ve Educational Software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Network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urrent Technology Applications</a:t>
            </a:r>
            <a:br>
              <a:rPr sz="5900"/>
            </a:b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Tools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Office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Publishing &amp;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&amp; Music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rol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S Researcher/Pro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Video St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Moviem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en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ed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gnitive T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er’s Sketch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s2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nier Science Softwar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S Environment &amp; Ecology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any, Many Mo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Future Technology Applications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ool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piration Softwar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active Whiteboar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I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tTrekk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ebquest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Sight Tes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obe Software Sui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tellite Lear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ten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ual Enroll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lectives Thru Online Vend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ck Institute for Edu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dutop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ccessful Practices Networ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udy Isl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DE EdHu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th Apple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chnology…can transform the classroom experience from old school…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tch the computer part on the right to its function on the lef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dr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y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C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s heat from 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 to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anent file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s voltage to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Technology driven 21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entury Learning Experienc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your digital camera to photograph the computer components, then upload them to your laptop, import them into Moviemaker Software and create a movie that identifies the component and explains its function for successful computer ope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ul and Nikkos make a movie 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2665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not just about cool equipment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ashy software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abo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Training Teac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Providing The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Engaging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It’s about Transforming the Classroom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FREEDOM AREA HIGH SCHOOL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228960" y="914400"/>
            <a:ext cx="8915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ission of Freedom Area High School is to facilitate a collaborative learning environment for all students that will improve achievement in oral and writt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ore content and technology literacy, and also provide necessary interventions for students to ensure success in career and citizenship prepar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REEDOM AREA HIGH SCHOO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of 7 Schools in Pennsylvan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recei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spcBef>
                <a:spcPts val="9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720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spcBef>
                <a:spcPts val="9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rooms for the Future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spcBef>
                <a:spcPts val="9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ge &amp; Career Counseling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REEDOM AREA HIGH SCHOO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7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nsylvania’s High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REFOR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REEDOM AREA HIGH SCHOO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ority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y of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untable Literacy P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Rigor &amp; Relevance of Instr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lture of High Expectations for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9th Grade Su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opt a New Daily Sche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Core Learning (Test Sco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Relationships at All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on Student Goals – Life After High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Academic Interv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REEDOM AREA HIGH SCHOO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ANGING TO AN “A Day/B Day” MODIFIED BLOCK FOR 2007-0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Center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Deep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usio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Project Based/Coopera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Planning &amp; Tea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partments,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rking Smarter, Not Har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 to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rooms For The Future Grant, we are building classrooms using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transform how teachers teach and how students lea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more than just buying laptop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’s opening the door for stud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xplore the world whi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ining the skills they will ne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ucceed in ou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tech global economy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program is not a luxury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’s a necessit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year’s funding only made it possible to equip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e classrooms.  We need next year’s resources to finish the job and ensure that every English, Math, Science and Social Studies classroom has the technology tools to educate our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4:58:26Z</dcterms:created>
  <dc:creator>Administrator</dc:creator>
  <dc:description/>
  <dc:language>en-US</dc:language>
  <cp:lastModifiedBy>mms</cp:lastModifiedBy>
  <dcterms:modified xsi:type="dcterms:W3CDTF">2007-03-22T18:48:54Z</dcterms:modified>
  <cp:revision>12</cp:revision>
  <dc:subject/>
  <dc:title>FREEDOM AREA HIGH SCHOOL</dc:title>
</cp:coreProperties>
</file>